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0AE-54D5-4036-B1D2-4E6D43D2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775-4072-4BD4-855F-17D5EBCF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FDC-8712-48F8-B2D8-E6EAA3DB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60E-1CB2-4E1C-BAC7-4D7FA110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F03-6C87-4931-85F8-550BE02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4DE-49A5-45CF-8A1F-07925B41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8E2F-AA39-4563-8D72-BB313AE1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121-946B-406D-9FA3-D68A421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EF1-0603-4EFB-86C9-26B5D84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14D-D31A-4310-B806-8ACBA1C3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4C0C-99E9-4A50-831B-931BDEE0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C071-E1A1-4C22-91A9-51E26D5B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177-3206-47FC-84CF-295C303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CAF-BBA2-40FC-9312-E6FBF03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290A-E8A2-4C33-ABE5-DEFB1E6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EE8E-93E1-4D2C-827F-E740925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D314-8360-4EAF-B353-CFAFD669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2E9E-3651-4743-9057-3778718A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D59D-BC7E-4DF6-AA34-99D58BC7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F4A0-B6A3-4FBC-BA44-172B6583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706-9D4E-41B0-88F6-4BE80612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7EC2-AFD6-4DD3-81BF-ACB28677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90AA-EAB3-4E7F-A16E-B6DB8A52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D130-8515-41EB-AFEC-DDE324DD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5409-390C-42B4-A39D-FF45BD44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F568-5D66-4311-B6C3-A87B5BC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1EBB-BE07-4051-9206-782FA91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D751-0EA3-4E2D-8DA7-6F9A783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224D-AA8B-46CD-81C8-9D50A26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AEBE-7F51-4F0D-A83B-1C576006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9293-88AD-41F8-8FBC-2F5E3F45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FB3-18DD-41B0-9D65-B99068B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A725-C7D9-4B0D-AE67-99B42557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F35B-05A5-4A78-B298-599EC2A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177F-2019-4699-8F31-A29036B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03BE-B19D-4241-B0C0-0520166D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BF7F-A517-4839-A673-BECF759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F8C1-F804-465D-93DD-6A27DA37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B4708-A995-4414-8A77-05D08342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5352-50E2-4A0E-963A-40D8EE7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721E-1566-436B-A9F4-2F07E20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63AB-0DF5-41CE-AA9B-B4802A6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181-A987-4FD5-B0C7-40BC1AC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F1AD-3914-4F39-A496-6238424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3F43-B69F-45DC-A510-2EA77ADD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426A-D9FF-496C-ADF8-7BA12F33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D4B-97AE-4A60-8961-5D140C2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896-3902-4584-ABCB-4A02D10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5426548-6402-43AB-857D-14EF8420A23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41E7702-FD89-46DA-A39E-0091751B909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F326A4B-9AD0-4773-9835-BE101071E62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32A3C46-D692-40B3-8775-7F5D89C070B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mów łańcuch przeżycia. Wyjaśnij znaczenie „złotej godziny” i „platynowych minut”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476280"/>
            <a:ext cx="102204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Łańcuch przeżycia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znanie i wezwanie pomoc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częcie RKO - wczesna defibrylacj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pieka poresuscytacyjn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Złota godzina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60 minut, w trakcie których poszkodowany powinien się znaleźć w szpitalu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Platynowe minuty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pierwszych 5 minut, w czasie których należy podjąć zabiegi resuscytacyjne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8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